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49CFC-0794-4EF2-9E93-CD47A9B7B0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A0BF7-3BD7-4FB1-BDA6-057F71FFA2E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53D63-B076-4A43-AFF1-AADA2516790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6039B-C11A-4DA8-BB3D-93BC97CC8EB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06FF5-3B76-4386-A426-BB23D4B6D7D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98101-3105-43BE-9619-E902134495C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44706-25A0-44AA-B6D4-898F9CE1B4B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E96BB-F0A4-4E04-B03E-2DA7BA44337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BEE42-2DF6-458A-90D4-F6CB8A2FE0F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92443-0D05-4E5F-998B-30E12B50770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ADE5C-637C-41A9-BCAF-0BE7E74EF9A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BD2D9-882D-49E3-B6CA-22D4FF122E6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1B201-034B-4010-A5B3-FCB384BC281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F1193-343B-43EA-B665-EB3AC1BD899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372C0-139C-4631-AB40-7EC8453F3F3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2312A-426A-43D9-A962-13791F51D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74CA5-60E8-4AFD-8B8B-4AD107FC0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8EA4E-0D98-4CE6-ABC6-067352E7B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09771-C063-49F6-A1ED-628F820FF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8FD80-D35F-4C23-A85C-FCB489F58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33594-B2F5-48C4-AC46-5666DA785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9E479-E8D4-4B7D-8DFC-F12741E53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1C668-7C3F-49C2-93CC-13AF57136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5F7C2-AB61-44D1-8118-B3DA202D6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22280-2C4D-48EB-93A0-39F9D6C90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783B8-62A1-42F9-B461-ACAA794CB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4B70C-FAC8-41A5-AF41-459895AB1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5F929-06A9-4C23-B5BF-7FCEC0CB1628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1.264 Lecture 27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urity protoco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ymmetric cryptograph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2214720" y="5719680"/>
            <a:ext cx="512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Next class: Anderson chapter 10.  Exercise due </a:t>
            </a:r>
            <a:r>
              <a:rPr b="1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after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clas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ryptography issue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yptography protects against eavesdropping, tampering (cut and paste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t does not protect against replay (need freshness for that) or necessarily against man-in-the-middle attack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thing protects against denial of service attacks except shutting down the attack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Managing network risks: Cryptography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2880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laintext: original messag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iphertext: encrypted messag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yptographic algorithm: function converting plaintext to ciphert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ey: number used by algorithm to encrypt and/or decryp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94320" indent="-19872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ot the same as a database key (primary or foreign!)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cryption proces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ymmetric: sender and receiver use same secret ke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symmetric: sender and receiver use different, but related keys. Receiver key public, used by all senders to that receiv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Rectangle 4"/>
          <p:cNvSpPr/>
          <p:nvPr/>
        </p:nvSpPr>
        <p:spPr>
          <a:xfrm>
            <a:off x="914400" y="4495680"/>
            <a:ext cx="1143000" cy="7621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lain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3962520" y="4495680"/>
            <a:ext cx="1143000" cy="7621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ipher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Rectangle 6"/>
          <p:cNvSpPr/>
          <p:nvPr/>
        </p:nvSpPr>
        <p:spPr>
          <a:xfrm>
            <a:off x="6934320" y="4495680"/>
            <a:ext cx="1143000" cy="7621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lain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Line 7"/>
          <p:cNvSpPr/>
          <p:nvPr/>
        </p:nvSpPr>
        <p:spPr>
          <a:xfrm>
            <a:off x="2057400" y="4876920"/>
            <a:ext cx="19051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Line 8"/>
          <p:cNvSpPr/>
          <p:nvPr/>
        </p:nvSpPr>
        <p:spPr>
          <a:xfrm>
            <a:off x="5105520" y="4876920"/>
            <a:ext cx="18288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Oval 9"/>
          <p:cNvSpPr/>
          <p:nvPr/>
        </p:nvSpPr>
        <p:spPr>
          <a:xfrm>
            <a:off x="2438280" y="4419720"/>
            <a:ext cx="914400" cy="9144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nd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ke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Oval 10"/>
          <p:cNvSpPr/>
          <p:nvPr/>
        </p:nvSpPr>
        <p:spPr>
          <a:xfrm>
            <a:off x="5638680" y="4419720"/>
            <a:ext cx="914400" cy="9144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eceiv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ke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ymmetric encryptio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ymmetric algorithms use same key to encrypt and decryp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S (Data Encryption Standard): 56 bit ke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60120" indent="-1918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plits data into pieces, reshuffle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60120" indent="-1918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acked in 1998 after 30 years of use: faster hardwar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ple DES: encrypt/decrypt/encrypt with 3 DES keys: 168 bit effective key leng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60120" indent="-1918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ackward compatible with DES in banking, etc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C2, RC4, RC5: 40-2048 bit keys, in common use by encrypting Web servers and browse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ES: Current US government standard, uses Rijndael algorith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s with symmetric key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st be exchanged in advance, via secure metho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-way communication not supported effectively: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60120" indent="-1918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many users must communicate with server, compromising any one can compromise al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xercise (very simplified from real thing!)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laintext: 73628495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Key: 31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1= 3, k2= 1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nder algorithm: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hift digits by k1 to the left. (Wrap around as needed.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ubtract k2 from each digi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iphertext: 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ceiver algorithm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dd k2 to each digi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hift digits by k1 to the right. (Wrap around as needed.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laintext:  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Real symmetric algorithms chop, shift, add/subtract in complex patterns to remove statistical patterns in data—see text: S-boxe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olutio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laintext: 73628495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Key: 31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1= 3, k2= 1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nder algorithm: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hift digits by k1 to the lef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ubtract k2 from each digi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iphertext:  28495736 -&gt; </a:t>
            </a:r>
            <a:r>
              <a:rPr b="1" lang="en-US" sz="2000" spc="-1" strike="noStrike" u="sng">
                <a:solidFill>
                  <a:srgbClr val="ffff00"/>
                </a:solidFill>
                <a:uFillTx/>
                <a:latin typeface="Arial"/>
              </a:rPr>
              <a:t>17384625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ceiver algorithm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dd k2 to each digi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hift digits by k1 to the righ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laintext:  62517384 -&gt; </a:t>
            </a:r>
            <a:r>
              <a:rPr b="1" lang="en-US" sz="2000" spc="-1" strike="noStrike" u="sng">
                <a:solidFill>
                  <a:srgbClr val="ffff00"/>
                </a:solidFill>
                <a:uFillTx/>
                <a:latin typeface="Arial"/>
              </a:rPr>
              <a:t>73628495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Real symmetric algorithms chop, shift, add/subtract in complex patterns to remove statistical patterns in data---see text: S-boxe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 Boxe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85" name="Picture 8" descr="SBox"/>
          <p:cNvPicPr/>
          <p:nvPr/>
        </p:nvPicPr>
        <p:blipFill>
          <a:blip r:embed="rId1"/>
          <a:stretch/>
        </p:blipFill>
        <p:spPr>
          <a:xfrm>
            <a:off x="990720" y="1828800"/>
            <a:ext cx="7311960" cy="4114800"/>
          </a:xfrm>
          <a:prstGeom prst="rect">
            <a:avLst/>
          </a:prstGeom>
          <a:ln w="0">
            <a:noFill/>
          </a:ln>
        </p:spPr>
      </p:pic>
      <p:sp>
        <p:nvSpPr>
          <p:cNvPr id="86" name="TextBox 1"/>
          <p:cNvSpPr/>
          <p:nvPr/>
        </p:nvSpPr>
        <p:spPr>
          <a:xfrm>
            <a:off x="7834320" y="6553080"/>
            <a:ext cx="123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rom Anders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TextBox 1"/>
          <p:cNvSpPr/>
          <p:nvPr/>
        </p:nvSpPr>
        <p:spPr>
          <a:xfrm>
            <a:off x="7394040" y="6172200"/>
            <a:ext cx="182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so see AES Wiki entr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xercise: hotel key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hat is the protocol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hat attacks are possibl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p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ut and past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hat is the effect of encryption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112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olution: hotel key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685800" y="762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253800" indent="-253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tocol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49720" indent="-2113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 (card) -&gt; D (door) : N1, N2, </a:t>
            </a:r>
            <a:r>
              <a:rPr b="1" i="1" lang="en-US" sz="2000" spc="-1" strike="noStrike">
                <a:solidFill>
                  <a:srgbClr val="00ffff"/>
                </a:solidFill>
                <a:latin typeface="Arial"/>
              </a:rPr>
              <a:t>N3, N4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, 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45640" indent="-168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here N1 is the current cod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45640" indent="-168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2, </a:t>
            </a:r>
            <a:r>
              <a:rPr b="1" i="1" lang="en-US" sz="1800" spc="-1" strike="noStrike">
                <a:solidFill>
                  <a:srgbClr val="00ffff"/>
                </a:solidFill>
                <a:latin typeface="Arial"/>
              </a:rPr>
              <a:t>N3 and N4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re previous codes </a:t>
            </a:r>
            <a:r>
              <a:rPr b="1" i="1" lang="en-US" sz="1800" spc="-1" strike="noStrike">
                <a:solidFill>
                  <a:srgbClr val="00ffff"/>
                </a:solidFill>
                <a:latin typeface="Arial"/>
              </a:rPr>
              <a:t>(if they can fit)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d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45640" indent="-168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 is the number of days the room is reserve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49720" indent="-2113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f N2 is correct, N1 is written to door unit, door ope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49720" indent="-2113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f N1 is correct and days&lt;T, door ope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53800" indent="-253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t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49720" indent="-2113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pied card can be used. No protection in this protocol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49720" indent="-2113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tacker can change value of T. Works unless another guest is given the room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49720" indent="-2113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ay is possible. Attacker can intercept card-door interaction, write it to new card, and enter room.  Mag stripe readers emit radiation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49720" indent="-2113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cryption doesn’t prevent copy or replay; it makes cut and paste hard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53800" indent="-253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expected problem: unused rooms/key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Basic key management example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-2638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ice and Bob wish to communicat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72040" indent="-2199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am is a trusted third party (shares keys with Alice and Bob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72040" indent="-2199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 key is a secret number that both encrypts and decrypt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63880" indent="-2638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ice calls Sam, asks for key to talk with Bob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72040" indent="-219960">
              <a:spcBef>
                <a:spcPts val="45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A -&gt; S: A, B 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(A and B are principals or </a:t>
            </a:r>
            <a:r>
              <a:rPr b="1" lang="en-US" sz="1800" spc="-1" strike="noStrike" u="sng">
                <a:solidFill>
                  <a:srgbClr val="ffff00"/>
                </a:solidFill>
                <a:uFillTx/>
                <a:latin typeface="Arial"/>
              </a:rPr>
              <a:t>names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63880" indent="-2638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am sends Alice pair of certificates (ciphertex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72040" indent="-2199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ach contains copy of ke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79840" indent="-1756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irst is encrypted so only Alice can read it: K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</a:rPr>
              <a:t>A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879840" indent="-1756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cond is encrypted so only Bob can read it: K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</a:rPr>
              <a:t>B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572040" indent="-219960">
              <a:spcBef>
                <a:spcPts val="45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S -&gt; A: {A, B, K</a:t>
            </a:r>
            <a:r>
              <a:rPr b="1" lang="en-US" sz="1800" spc="-1" strike="noStrike" baseline="-25000">
                <a:solidFill>
                  <a:srgbClr val="ffff00"/>
                </a:solidFill>
                <a:latin typeface="Arial"/>
              </a:rPr>
              <a:t>AB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, T}</a:t>
            </a:r>
            <a:r>
              <a:rPr b="1" lang="en-US" sz="1800" spc="-1" strike="noStrike" baseline="-25000">
                <a:solidFill>
                  <a:srgbClr val="ffff00"/>
                </a:solidFill>
                <a:latin typeface="Arial"/>
              </a:rPr>
              <a:t>K</a:t>
            </a:r>
            <a:r>
              <a:rPr b="1" lang="en-US" sz="1800" spc="-1" strike="noStrike" baseline="-50000">
                <a:solidFill>
                  <a:srgbClr val="ffff00"/>
                </a:solidFill>
                <a:latin typeface="Arial"/>
              </a:rPr>
              <a:t>AS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, {A, B, K</a:t>
            </a:r>
            <a:r>
              <a:rPr b="1" lang="en-US" sz="1800" spc="-1" strike="noStrike" baseline="-25000">
                <a:solidFill>
                  <a:srgbClr val="ffff00"/>
                </a:solidFill>
                <a:latin typeface="Arial"/>
              </a:rPr>
              <a:t>AB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, T}</a:t>
            </a:r>
            <a:r>
              <a:rPr b="1" lang="en-US" sz="1800" spc="-1" strike="noStrike" baseline="-25000">
                <a:solidFill>
                  <a:srgbClr val="ffff00"/>
                </a:solidFill>
                <a:latin typeface="Arial"/>
              </a:rPr>
              <a:t>K</a:t>
            </a:r>
            <a:r>
              <a:rPr b="1" lang="en-US" sz="1800" spc="-1" strike="noStrike" baseline="-50000">
                <a:solidFill>
                  <a:srgbClr val="ffff00"/>
                </a:solidFill>
                <a:latin typeface="Arial"/>
              </a:rPr>
              <a:t>BS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(T is time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63880" indent="-2638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ice retrieves her key, sends Bob the second certificat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72040" indent="-2199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he then sends him a message that he can decryp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72040" indent="-219960">
              <a:spcBef>
                <a:spcPts val="45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A -&gt; B: {A, B, K</a:t>
            </a:r>
            <a:r>
              <a:rPr b="1" lang="en-US" sz="1800" spc="-1" strike="noStrike" baseline="-25000">
                <a:solidFill>
                  <a:srgbClr val="ffff00"/>
                </a:solidFill>
                <a:latin typeface="Arial"/>
              </a:rPr>
              <a:t>AB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, T}</a:t>
            </a:r>
            <a:r>
              <a:rPr b="1" lang="en-US" sz="1800" spc="-1" strike="noStrike" baseline="-25000">
                <a:solidFill>
                  <a:srgbClr val="ffff00"/>
                </a:solidFill>
                <a:latin typeface="Arial"/>
              </a:rPr>
              <a:t>K</a:t>
            </a:r>
            <a:r>
              <a:rPr b="1" lang="en-US" sz="1800" spc="-1" strike="noStrike" baseline="-50000">
                <a:solidFill>
                  <a:srgbClr val="ffff00"/>
                </a:solidFill>
                <a:latin typeface="Arial"/>
              </a:rPr>
              <a:t>BS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, {M} </a:t>
            </a:r>
            <a:r>
              <a:rPr b="1" lang="en-US" sz="1800" spc="-1" strike="noStrike" baseline="-25000">
                <a:solidFill>
                  <a:srgbClr val="ffff00"/>
                </a:solidFill>
                <a:latin typeface="Arial"/>
              </a:rPr>
              <a:t>K</a:t>
            </a:r>
            <a:r>
              <a:rPr b="1" lang="en-US" sz="1800" spc="-1" strike="noStrike" baseline="-50000">
                <a:solidFill>
                  <a:srgbClr val="ffff00"/>
                </a:solidFill>
                <a:latin typeface="Arial"/>
              </a:rPr>
              <a:t>AB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72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72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Can be replayed; no freshnes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63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Kerbero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-257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trusted server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57280" indent="-2142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hentication server to which users log 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57280" indent="-2142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icket-granting server, which gives access to files and programs (authorization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57160" indent="-17136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is is more scalable than a single serv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57280" indent="-2142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ice asks ticket server for access to Bob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57160" indent="-171360"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A -&gt; S: A, B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57280" indent="-2142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rver sends ticket, encrypted with A’s password (key), granting access to B at time T for lifetime L of ticke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57160" indent="-171360"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S -&gt; A: {T</a:t>
            </a:r>
            <a:r>
              <a:rPr b="1" lang="en-US" sz="2000" spc="-1" strike="noStrike" baseline="-25000">
                <a:solidFill>
                  <a:srgbClr val="ffff00"/>
                </a:solidFill>
                <a:latin typeface="Arial"/>
              </a:rPr>
              <a:t>S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, L, K</a:t>
            </a:r>
            <a:r>
              <a:rPr b="1" lang="en-US" sz="2000" spc="-1" strike="noStrike" baseline="-25000">
                <a:solidFill>
                  <a:srgbClr val="ffff00"/>
                </a:solidFill>
                <a:latin typeface="Arial"/>
              </a:rPr>
              <a:t>AB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, B, {T</a:t>
            </a:r>
            <a:r>
              <a:rPr b="1" lang="en-US" sz="2000" spc="-1" strike="noStrike" baseline="-25000">
                <a:solidFill>
                  <a:srgbClr val="ffff00"/>
                </a:solidFill>
                <a:latin typeface="Arial"/>
              </a:rPr>
              <a:t>S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, L, K</a:t>
            </a:r>
            <a:r>
              <a:rPr b="1" lang="en-US" sz="2000" spc="-1" strike="noStrike" baseline="-25000">
                <a:solidFill>
                  <a:srgbClr val="ffff00"/>
                </a:solidFill>
                <a:latin typeface="Arial"/>
              </a:rPr>
              <a:t>AB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, A}</a:t>
            </a:r>
            <a:r>
              <a:rPr b="1" lang="en-US" sz="2000" spc="-1" strike="noStrike" baseline="-25000">
                <a:solidFill>
                  <a:srgbClr val="ffff00"/>
                </a:solidFill>
                <a:latin typeface="Arial"/>
              </a:rPr>
              <a:t>K</a:t>
            </a:r>
            <a:r>
              <a:rPr b="1" lang="en-US" sz="2000" spc="-1" strike="noStrike" baseline="-50000">
                <a:solidFill>
                  <a:srgbClr val="ffff00"/>
                </a:solidFill>
                <a:latin typeface="Arial"/>
              </a:rPr>
              <a:t>BS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}</a:t>
            </a:r>
            <a:r>
              <a:rPr b="1" lang="en-US" sz="2000" spc="-1" strike="noStrike" baseline="-25000">
                <a:solidFill>
                  <a:srgbClr val="ffff00"/>
                </a:solidFill>
                <a:latin typeface="Arial"/>
              </a:rPr>
              <a:t>K</a:t>
            </a:r>
            <a:r>
              <a:rPr b="1" lang="en-US" sz="2000" spc="-1" strike="noStrike" baseline="-50000">
                <a:solidFill>
                  <a:srgbClr val="ffff00"/>
                </a:solidFill>
                <a:latin typeface="Arial"/>
              </a:rPr>
              <a:t>A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57280" indent="-2142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ice sends timestamp to resource B, which confirms it’s al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57160" indent="-171360"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A -&gt; B: {T</a:t>
            </a:r>
            <a:r>
              <a:rPr b="1" lang="en-US" sz="2000" spc="-1" strike="noStrike" baseline="-25000">
                <a:solidFill>
                  <a:srgbClr val="ffff00"/>
                </a:solidFill>
                <a:latin typeface="Arial"/>
              </a:rPr>
              <a:t>S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, L, K</a:t>
            </a:r>
            <a:r>
              <a:rPr b="1" lang="en-US" sz="2000" spc="-1" strike="noStrike" baseline="-25000">
                <a:solidFill>
                  <a:srgbClr val="ffff00"/>
                </a:solidFill>
                <a:latin typeface="Arial"/>
              </a:rPr>
              <a:t>AB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, A}</a:t>
            </a:r>
            <a:r>
              <a:rPr b="1" lang="en-US" sz="2000" spc="-1" strike="noStrike" baseline="-25000">
                <a:solidFill>
                  <a:srgbClr val="ffff00"/>
                </a:solidFill>
                <a:latin typeface="Arial"/>
              </a:rPr>
              <a:t>K</a:t>
            </a:r>
            <a:r>
              <a:rPr b="1" lang="en-US" sz="2000" spc="-1" strike="noStrike" baseline="-50000">
                <a:solidFill>
                  <a:srgbClr val="ffff00"/>
                </a:solidFill>
                <a:latin typeface="Arial"/>
              </a:rPr>
              <a:t>BS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, {A, T</a:t>
            </a:r>
            <a:r>
              <a:rPr b="1" lang="en-US" sz="2000" spc="-1" strike="noStrike" baseline="-25000">
                <a:solidFill>
                  <a:srgbClr val="ffff00"/>
                </a:solidFill>
                <a:latin typeface="Arial"/>
              </a:rPr>
              <a:t>A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}</a:t>
            </a:r>
            <a:r>
              <a:rPr b="1" lang="en-US" sz="2000" spc="-1" strike="noStrike" baseline="-25000">
                <a:solidFill>
                  <a:srgbClr val="ffff00"/>
                </a:solidFill>
                <a:latin typeface="Arial"/>
              </a:rPr>
              <a:t>K</a:t>
            </a:r>
            <a:r>
              <a:rPr b="1" lang="en-US" sz="2000" spc="-1" strike="noStrike" baseline="-50000">
                <a:solidFill>
                  <a:srgbClr val="ffff00"/>
                </a:solidFill>
                <a:latin typeface="Arial"/>
              </a:rPr>
              <a:t>AB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57280" indent="-2142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ob sends timestamp incremented by on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57160" indent="-171360"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B -&gt; A: {T</a:t>
            </a:r>
            <a:r>
              <a:rPr b="1" lang="en-US" sz="2000" spc="-1" strike="noStrike" baseline="-25000">
                <a:solidFill>
                  <a:srgbClr val="ffff00"/>
                </a:solidFill>
                <a:latin typeface="Arial"/>
              </a:rPr>
              <a:t>A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+1}</a:t>
            </a:r>
            <a:r>
              <a:rPr b="1" lang="en-US" sz="2000" spc="-1" strike="noStrike" baseline="-25000">
                <a:solidFill>
                  <a:srgbClr val="ffff00"/>
                </a:solidFill>
                <a:latin typeface="Arial"/>
              </a:rPr>
              <a:t>K</a:t>
            </a:r>
            <a:r>
              <a:rPr b="1" lang="en-US" sz="2000" spc="-1" strike="noStrike" baseline="-50000">
                <a:solidFill>
                  <a:srgbClr val="ffff00"/>
                </a:solidFill>
                <a:latin typeface="Arial"/>
              </a:rPr>
              <a:t>AB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Kerberos, con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s avoids replay attacks and compromised keys by using timestamp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9436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mpromised keys are a problem only for their lifetime L, typically measured in hou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9436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clocks must now be synchroniz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rberos is used for Microsoft security and many single login syste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9436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y don’t we use Kerberos for Internet and Web security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9436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Kerberos requires a central key server trusted by all parti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1828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it is broken, all communications are expose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1828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it is down, no one can initiate secure connectio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1828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ho would such a trusted party be on the Internet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1828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t would be expensiv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9436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e use a different protocol, SSL (next lecture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Passwords as a protocol: issue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simplest security protocol is a username and pass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01560" indent="-2314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ften the most vulnerable piece of securi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01560" indent="-2314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ften used to protect other security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25560" indent="-1850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Your browser SSL certificate is protected by a passwor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25560" indent="-1850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erberos/Microsoft security key is your passwor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7560" indent="-2775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issu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01560" indent="-2314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cial enginee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25560" indent="-1850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sers disclose passwords to third partie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296000" indent="-18504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By accident, on purpose, or through deception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296000" indent="-18504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eception common in health care, insurance, banking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01560" indent="-2314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liable password ent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25560" indent="-1850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sers mistype passwords; password reset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01560" indent="-2314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membering pass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25560" indent="-1850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sers write down passwords, choose weak password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Passwords: solution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re are 26 letters, 10 digits: 36 possible characters at each location in a pass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s should be about 5 bits (2</a:t>
            </a:r>
            <a:r>
              <a:rPr b="1" lang="en-US" sz="2000" spc="-1" strike="noStrike" baseline="30000">
                <a:solidFill>
                  <a:srgbClr val="ffffff"/>
                </a:solidFill>
                <a:latin typeface="Arial"/>
              </a:rPr>
              <a:t>5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32 combination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ecause of patterns, it’s usually only 1.5-2 bits/cha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 8 character password is less than a 16 bit ke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asily broken (see the book for many attack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lu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ssphras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ardware password generat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ometrics (which can also be attacked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ryptographic primitive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ymmetric key encryp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d to encrypt sess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ymmetric (public) key encryp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d to distribute symmetric key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sis for digital signat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ream or block ciph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d to apply key to messag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essage digests (hashes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d to verify message integri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igital signatures (certificates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d to verify identity of principa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vered as part of Secure Sockets Layer (SS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19T18:28:28Z</dcterms:created>
  <dc:creator>George Kocur</dc:creator>
  <dc:description/>
  <dc:language>en-US</dc:language>
  <cp:lastModifiedBy>gkocur</cp:lastModifiedBy>
  <cp:lastPrinted>1999-11-08T15:50:20Z</cp:lastPrinted>
  <dcterms:modified xsi:type="dcterms:W3CDTF">2013-11-12T17:45:46Z</dcterms:modified>
  <cp:revision>195</cp:revision>
  <dc:subject/>
  <dc:title>1.264 Lecture 5</dc:title>
</cp:coreProperties>
</file>