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73E2FA-E622-4D39-93D7-FE6448B8A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AECCA6-7336-4031-8A97-0053CE88B4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BF726D0-FAE4-4ADF-BE2B-58D0434666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E129AC-96A8-446A-96ED-01BC0CA2CF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EA3E14-1228-4BEE-9C3B-43DABD3560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333E5B6-941C-42C2-8E9F-A227390426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20C07B-BA03-40BB-B2F6-407484652A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5894B15-F8F6-4E8A-B82B-1FF5BF6986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1B437A3-5A97-4393-9FAA-F9F8FC867D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1429232-6730-4CBD-AF70-977AD1BA43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F5C23B-DAF1-400F-A231-259EA9FFF5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3A1ABB-511A-48DA-A5B6-9B55F54280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C06D12B-AAF1-4710-9DA3-01F1F37A64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D1D9D90-CC06-47D5-AE58-7EFBB867CD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C0B62F-7EFD-48C6-B987-CB751EE4C0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03B-C878-4114-A35B-ACAA816B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314-3126-45BB-B97D-1170E502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37F-62B2-4944-8575-0D53B7CB2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6AB-6693-43A4-AF79-2CA19BC5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7C2-C857-4840-A1BE-7C47C7B4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953-B498-42DB-83D2-E821538E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54F-F244-43D4-853B-DF2FD8D7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BF1-1E67-4A29-B844-8065C2FE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2A4-310B-4D1B-AF99-9CDD3C54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4AC-72F7-4250-81FC-CA26A277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411-9339-4F3E-91F5-3A343281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5DF-9DCA-42C0-9F0F-3F6EB15C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1A2B-EE7A-429A-A02B-FD16CDDA18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000" y="5719680"/>
            <a:ext cx="51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8, 3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cal area network (LA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peed, privately owned, short rang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EE 802.3 or Ethernet is nearly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s of 10Mbps to 1Gbps (1000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ange: building or campus (1-5 km typical leng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rmission for right of way on str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s can extend Ethernet over metro area using Carrier Ethernet, a metro-area network (M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technology is not Ethernet per se, but it looks like and is managed like Ethernet from the customer’s point of 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MANs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eater, bridge/hub, router, gateway at customer si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855720" y="1044720"/>
            <a:ext cx="72216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ernet (initial wired, current wireless vers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36440" y="762120"/>
            <a:ext cx="8931240" cy="533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017360" y="6172200"/>
            <a:ext cx="71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 is carrier sense multiple access/collision detection (CSMA/CD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liest wired Ethernet used this protocol also, now supersed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582440" y="4495680"/>
            <a:ext cx="45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frame= 512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nder sends 512 bits and has heard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ming signal, it can continue w/o interrup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s farthest station collides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 signal, which must reach sender before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more than 512 bi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- Maximum traditional LAN leng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’ll see the 1 Gb/sec LAN isn’t feasible with traditional LAN. 1 Gb/sec LAN 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 duplex (two wires per station, one to send, one to rece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es only, no repeaters or bridges, and no colli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ber optics (often), with 500 to 5000 meter seg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tance limited by signal fading, etc. (more on this la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2 meters= 0.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60960" indent="-3052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.2 meters= 0.0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though collisions are avoided in full duplex, switched LANs, signal attenuation and other losses are lim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s typically are 5 km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N: Telecom carrier network facili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 area networks (W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ver same physical facilities as voice (next lec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loop, local switch, tandem switch, tr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n permanent circuits of much higher bandwidth than for a single voice call;  no swi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based on ISO 7-layer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ly HTTP (Web services), tcp, and 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ed by routers and data swit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ssions are highly variable compared to voice,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brow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 ATM 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 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 inter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ddresses are Ethernet addresses or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phon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data network speeds 56 kbps to 40 Gbps per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voice network secure without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925760" y="632448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de area networks (W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ces from metro-area (MAN) or local-area (LAN) n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lob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provided by multiple carriers (one is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cy WANs are present but usually not good choices for new data comm need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(point to point) circuits: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up circuits: low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 relay: still viable, being superseded by IP (cost, rea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drop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d for bank ATMs, point-of-sale (POS) terminals, lottery termin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w that banks, stores have general Internet access, encrypted ATM and POS traffic often goes over the general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et networks (X.25): expensive, limited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AT (satellite): widely dispersed, low bandwidth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-based networks becoming domin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 over a business-only, carrier-provided infrastructure separate from the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rier/public network: major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56560" cy="538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601040" y="2228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81960" y="41641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80440" y="419112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 or IP-PB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821400" y="1676520"/>
            <a:ext cx="22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per, becoming fiber or wirel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ervice are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Picture 4" descr="Lec20a"/>
          <p:cNvPicPr/>
          <p:nvPr/>
        </p:nvPicPr>
        <p:blipFill>
          <a:blip r:embed="rId1"/>
          <a:stretch/>
        </p:blipFill>
        <p:spPr>
          <a:xfrm>
            <a:off x="1130400" y="1076400"/>
            <a:ext cx="69469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ET uses time division multiplexing (T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locks in the network sync to a master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er/demultiplexers start/end a SONET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drop multiplexers insert/extract subset of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 signal is 51.84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ice call is 64 kbits/sec, or 0.064 Mbit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capacity= 51.84/0.064, or 810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 it has about 15% overhead (framing, con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tually carries 672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7 to 28 video channels (1.5 Mbps to 6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92 signal is 192 times higher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SONET rate (though fiber can go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types of network; name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highest on the pole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are point to point conne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are shared (point to many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vo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have competitive (open) ac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ber optic (SONET) ring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20760" y="701640"/>
            <a:ext cx="6170760" cy="6080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49800" y="64771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e a large airline with a single server site that handles all your re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ransaction is 10,000 bytes (80,000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ndle 2,000 transactio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can you locate your servers on the network in the previous sl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central office A, in a telco colocation s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SONET hub on one of the OC-12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multiplexer on one of the OC-3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 the server bandwidth and compare to the network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-3 is 3 * OC-1; OC-12 is 12 * OC-1; OC-48 is 48 * O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80,000 * 2,000= 160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 is 51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3 is 155 Mbits/sec. Not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2 is 622 Mbits/sec.  Clearl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to be at central office A or at a SONET hub on one of the OC-12 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he full OC-12 or OC-48 capacity. Carriers will sell you an appropriate 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r: layer 1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: layer 2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: layer 3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way: layer 7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SAT: Very Small Aperture Terminal (satell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.25: Packet service, pre-Internet (replaced by 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BX: Private branch exchange, to switch voice calls in an office (now mostly IP-PB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A: Local access and transport area, defines service areas for regulatory, pric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is highest on pole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high voltage/cur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se are point-to-point connec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shared (point-to-many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c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da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vo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have competitive acc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unbundled to CL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not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distribution monopoly, generation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copper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coax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cop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ystems manage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roject/system must estimate the amount of data to be exchanged with partners/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RFID example from last l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appropriate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d: higher bandwidth/reliability (~gigabits/sec/circu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: mobile, flexible, low bandwidth (~megabits/sec/ce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between build, lease,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right of way,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ill interconnect different network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(LAN), metro area (MAN), wide area (W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networks will be standards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carriers, bandwidths, service levels, costs, etc., similar to physical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likely to need a lot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bandwid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 is a key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data carried over analog (continuous) circuits at the physic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 were designed for data: telecom circuits for voice, broadcast and CATV for radio and 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been repurposed to carry data while retaining their historic physical structure ($$$ existing capi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 bandwidth measured in Hz: cycle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communications can carry 2 bits/Hz in 5 GHz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d communications have vastly mo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 for digital bandwidth based on signal/noise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factors determine the building blocks you’ll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hannels have more bandwidth than 1 use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users are multiplexed (shared) on comm chan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net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travels over different network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 at your site: cheap, high bandwidth (1 Gbps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from your site to local switch/cable heade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per: ~5 Mbps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V: ~20 Mbps, 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: essentially unlimited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or CATV network: fiber, high bandwidth, che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chronous optical network (SONET)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y high availability (99.999%),  recover from many fa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ircuits are permanent, unlike voi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cket flow over the permanent network is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IP networks handle most voice, data and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 routers exist at carrier switch facilities for IP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networks are generally not encrypted; rely on physical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ata communication protoc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7480" cy="522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TCP/I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Lec20d"/>
          <p:cNvPicPr/>
          <p:nvPr/>
        </p:nvPicPr>
        <p:blipFill>
          <a:blip r:embed="rId1"/>
          <a:stretch/>
        </p:blipFill>
        <p:spPr>
          <a:xfrm>
            <a:off x="2057400" y="1066680"/>
            <a:ext cx="5064120" cy="561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s and WA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" name="Picture 4" descr="Lec20b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3198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453760" y="594360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/or MAN if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 flipH="1" flipV="1">
            <a:off x="4494960" y="4952520"/>
            <a:ext cx="113400" cy="99144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1-27T15:06:41Z</dcterms:modified>
  <cp:revision>248</cp:revision>
  <dc:subject/>
  <dc:title>1.264 Lecture 5</dc:title>
</cp:coreProperties>
</file>