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1563-6CFD-48A8-AB12-3ECF433FD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FB03-C1A4-48A6-8896-6DE91A630A2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2F11-6E67-49F7-AA59-AAA34774631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A15E-1496-4BA8-9395-467FC6C8D84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EE2B-2C33-414B-B1A0-253CE15B0E5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0FED-C163-4A21-A1CA-0DBE8DDECC3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F388-B1EC-4B10-824C-C441549DFF3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6655-5B38-48C9-91EA-000F251FBF1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97F8-C09C-4689-B268-0B839873A19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BFB2-B751-467D-8EED-6AA50C170A9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CB32-AAC7-4E3A-8B52-9C0BF79195C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D87A-7C3A-4529-A122-85970250A0B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F304-9ED3-4E91-99C8-8FB42B5E5A9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C182-EFC5-4E79-917D-400A32C8223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2055-B403-4B9F-9C4D-BA49781A3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AF07-FC4D-45C8-8945-6BBA88E5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9FA1-CC02-4984-91A3-02776E72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07D9-0AEE-434E-86E2-21470DCEA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4CAF-A5AA-4B5C-9CBC-B7DE60B9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2980-30E0-4C14-98C7-522E5DB0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4DE9-4711-4148-A1E3-19E3712D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FE2F-0F4D-4CAD-959F-1F6D9CEC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646C-A427-4777-8A22-DE167A51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060E-3C8E-4BDA-8C10-EB6E68E8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0E70-8F01-4BCD-8F22-794811C9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F1D7-028B-4082-918D-3EF11789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4D0F-DD65-4570-820C-D52699771CF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basi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4720" y="5719680"/>
            <a:ext cx="502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 3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mises for Internet secur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-network-server are the 3 key compon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 (browser or application) premi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server is operated by organization stated  (ident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cuments returned by server are free from viruses (trustworth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server will not distribute user’s private info, such as identity, financial, Web use… (secrecy/privac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work premises (for both client and server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is free from third party eavesdroppers (secrec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delivers information intact, not tampered with by third parties (secrecy, trustworth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premi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will not attempt to break into or alter contents of Web site or database (secrecy/confidential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will not try to gain access to documents or data that he/she is not allowed (secrecy/confidential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will not try to crash the server or deny service to oth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user has identified him/herself, user is who he/she claims to be (ident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ent ris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ection and hijacking (botnet, spam serv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lware, viruses, trojans, worm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ero day vulnerabil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engineering to visit Web pages, respond to em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rt term solutions are virus checkers, edu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 term solution is cloud w/few apps on clien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vacy lo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okies. Abused to track user hab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ail. Spam. (What % of email is spam?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rt term solution is email verification (IP address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ty loss (phishing, other attack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tial information sent to unauthorized par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: education, IP improvements, certificates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er ris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ite break-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theft is usual object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ng system, basic apps fairly sec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s are primarily database prote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s compromi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iders (what % of attacks are inside jobs?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seem to be losing the batt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llions of credit cards disclosed annual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ilored worms/trojans steal from business and consumer accou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5% of corporations report significant breach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us checker/intrusion detection don’t prevent sophisticated attac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www.threatexpert.com for some statistic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twork ris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ial of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acks that cause system to expend large resources in respon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ed denial of service attac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s are distributed filters, identification of attacking servers, changes in Internet protocols to limit spoofing in open Intern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use of private networks under Internet protoco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cket sniff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for unsecured servers, ports to attack. Mostly small/medium busines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acking encryption is rare; there are easier holes to exploit, usual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se study: Public transport fare coll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h/token transit fare coll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e security feature of transit system fare collection system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internal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passenger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risks in getting funds to ban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artcard transit fare coll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e security feature of transit system fare collection system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internal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passenger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risks in getting funds to ban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urity engineer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far, we’ve covered requirements, UML, business rules, data models, databases, We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cus on correctness, completeness, consistenc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are important for security too: a buggy system is an insecure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it doesn’t do what it’s supposed to do correctly, it won’t handle other things correctly eith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engineering focuses on guarding against malice, and against errors that can be exploi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lice is the key additional factor for 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lectures are just an introduction to secu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over basic principles and core issues/exam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s of syste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 or component: protocol, smartcard, comput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ection of products, plus operating system and its communic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ection of above, plus application softw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IT staf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users and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customers and external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environment: competitors, regula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vendors, security evaluators focus on 1, 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es focus on 5, 6, as does Anderson, and so do w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s of actor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: physical person, company or gover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definitions relate to legal defin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le: function assumed by different persons in succes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your database administrat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ncipal: entity that participates in security sys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person, role, communications channel or other component, including an attack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ty: names of two principals that are the same person or compon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a user and his or her username/password, or his or her iris scan or fingerpr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ccessing your apartment or home, defin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ccessing your apartment or home, defin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orge, Katie (occupan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mbridge Savings Bank (mortgage holder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ious plumbers, electricians, cat sitters, et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cupant, owner, building 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cupant, landlord/owner, building 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k, keys, alar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rglar, George, Katie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tie, George, Katie’s key, George’s key, alarm co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rglar can adopt our identity if we lose our ke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ssica (cat sitter), our house 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s of trust and secrec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usted system: one whose failure will break security poli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your building access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ustworthy system: one that will not f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a well administered, technically correct access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recy: mechanisms to limit principals who can access inform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tiality: obligation to protect other person’s secre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cy for the benefit of the organization (strategic plan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cy: ability/right to protect your personal secre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cy for the benefit of the  individual(bank account number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nymit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content confidenti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source or destination confidenti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henticit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ticipation of genuine principal, not a copy or a fak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ust and identity example: certificat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umer user identity in certificates is email address (e.g., your MIT certificate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ual identity for users is most often established using credit card number or account nu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pany identity based on domain name/UR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ng partner trust is not based on encryption, certificates, etc. but on knowledge of each other from face-to-face business dealin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puter security is only one element, though crucial, part of trust and ident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 computer-based trust and identity seems impossible: no centrally trusted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08T15:50:20Z</cp:lastPrinted>
  <dcterms:modified xsi:type="dcterms:W3CDTF">2013-11-07T22:52:23Z</dcterms:modified>
  <cp:revision>192</cp:revision>
  <dc:subject/>
  <dc:title>1.264 Lecture 5</dc:title>
</cp:coreProperties>
</file>