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8901-0F8B-4130-BCAA-50D3A26D4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ADAC-EBF7-4D88-9453-5744383FD7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0B48-6106-4BC7-A3AB-F6D894EFC6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16BD-59C7-48CA-9CA5-465DA08580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8058-5D58-4A2E-A2A9-E6B94FB9FF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B807-4244-4215-9F78-13721F6686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60C9-CEF6-4BE5-B7C2-69035878B3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DEA7-F4E3-4294-92D8-92D3B7C8C1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9B28-E957-46EA-83F1-BAD6B53E22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08BE-BD35-4A6D-A6F9-2C9B71218F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5378-5EA7-4FEF-9F68-11345CAEF3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DA01-4BDF-4595-9DE9-027A5BA09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5BD5-3B41-44AF-8266-6E438946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07AA-D7AF-4B4C-BA1C-568492BEF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9F92-EF7B-4CDA-9902-75A948934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D4E2-65B5-458E-9630-F6992E40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D651-ABC8-4A9C-9AF3-FE6653A5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C9DB-E1AD-4EBE-A8E4-2148366D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ACE5-09FC-4949-A814-D98396F6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EC9D-B597-4CF0-B284-C8BDD05D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D7C2-6F62-43D6-A834-6542A7E9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8A5C-442F-4B35-A8D3-EDC9804E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2A21-8074-46D8-9E67-378D3317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A47F-9318-4030-8110-F891C342B45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protoco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15800" y="5719680"/>
            <a:ext cx="518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ext class: Anderson chapter 4.  Exercise due 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physical securit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armaceutical anti-counterfei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ufacturer places bar code or RFID tag on each drug 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ore scans bar code or RFID tag to verify authenticity with manufacturer serv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stomer has 800 number to call to verify serial nu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st possible atta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think like a crimin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: physical securit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armaceutical anti-counterfei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 bar code or RFID tag on drug 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ore scans to verif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stomer has 800 number to call to verify serial nu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atta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y bar code or RFID tag and place on counterfeit item, sell it before the real 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t up fake Web site and 800 number that will verify anything.  Alter instructions to stores or consum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store can be compromised, even more attacks are possible.  Store can fail to check, falsify records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upply chain and transportation increasingly involved in anti-counterfeiting and other securit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se are versions of replay, man in the middle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ncryp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ncryp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the process of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forming information (referred to a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laintex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an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lgorith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often called a cipher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make it unreadable to anyon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ept those possessing special knowledge, usually referred to as 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ke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result of the process is encrypted information, or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iphertex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reverse process, i.e. to make the encrypted information readable again, is referred to a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cryp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(i.e. to make it unencrypted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tocol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44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processes are called protocols. They addres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ty and authentication of ident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les and authorization of ro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ounting for resources used by principa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luding non-repudi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id and invalid actions taken by principals, including attackers, e.g.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 in the middle attack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play attacks, and other issues with freshness/stalene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mpering with network conne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ersonation, extortion, physical theft, 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your organization has significant assets, you must protect against sophisticated/tailored atta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tocol notation exampl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 -&gt; G : T, {T, N}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K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ken T used to enter garage G  (T and G ar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rincipal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ken (e.g. like EZ Pass) transmits its serial number 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n transmits its serial number T and a number used only once (nonce) N, encrypted with its key K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nce assures that message is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fresh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not a repla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7840" indent="-1666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nce can be sequential, random, or third party challeng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167840" indent="-1666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ssume nonce is sequential in this protoco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known by both T and 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king garage server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ads 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ks up the corresponding key K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rom its databa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ciphers {T, N}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K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ecks that the message includes T, and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ecks that N has not been seen before or has expected valu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flaws in garage protocol?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cribe whether it is possible to hav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 in the middle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nial of service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ay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ack (obtain) the ke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ther attacks that you can imagin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nk like a criminal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: flaws in garage protocol?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440" y="121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cribe whether it is possible to hav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 in the middle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es. Have a rogue reader before garage entrance that reads all EZ Pass units seen.  Copy the tag’s message to the reader onto another unit. Use that one to enter garag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nial of service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es. Break the reader, cut its power, etc. Gate will be left u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ay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Since each message has nonc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ack the ke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es. Attacker Z can go into garage with rogue reader and interrogate an EZ Pass unit repeatedly. Z knows part of the message is the sequential number and part is the fixed key. Z can infer K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rom enough (N, N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K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pai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ther attacks that you can imagine? (Easiest one!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es. Attacker can break into car and steal EZ Pass un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challenge and respon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hicle anti-theft system as examp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hicle key inserted into steering loc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 key has serial number, which is its identifi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gine management unit sends random number challenge to car key using short range radi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 key computes response by encrypting the random number challenge and also sends car key identifi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gine management unit decrypts, reads response and verifies it matches the challenge, and car key serial nbr corr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ercise: write out the protocol using the notation conventions from the last slid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 (engine)-&gt;____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 (car key) -&gt;___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 (engine)-&gt; C (car key): 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 -&gt; E : {C, N}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K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e the car key must send its identifi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must verify that C is valid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 can often be predicted somewhat because the engine controller is simple (e.g., black hat intercepts N and knows next N is based on it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cing black hat to find C makes break-in significantly hard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y and engine management unit must be matched at time of manufacture; engine management unit must know K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protocol is between a key and the engine. Since the user has the key, the key and engine are only in proximity when the user is too.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key must be in the ignition for the protocol to start. This also makes the protocol better: contact rather than contactless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factors make man in the middle attacks harder, but not impossible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allenge respon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very common approach but has been broken repeated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ndom numbers often not very random and can be grabbed or guessed by thie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is also vulnerable to man-in-the-middle atta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&lt;-&gt; B &lt;-&gt; 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 can masquerade as C, passing A’s requests to C and sending C’s responses to A.  After (fraudulent) authentication, B gains ac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king garage exampl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lack hat has reader, masquerades as garage reader, interrogates card, gets its serial number T, (N,T)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K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plays it to real reader, gets response back, enters gar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nial of service attack: jam radio frequency so car owner can’t lock car when lea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1-11-14T15:16:28Z</cp:lastPrinted>
  <dcterms:modified xsi:type="dcterms:W3CDTF">2013-11-07T23:22:11Z</dcterms:modified>
  <cp:revision>191</cp:revision>
  <dc:subject/>
  <dc:title>1.264 Lecture 5</dc:title>
</cp:coreProperties>
</file>