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64D6-856B-4F97-B694-5FB2EAE00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B9F7-8C1B-437D-82B2-6C3EFF6D54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3AE6-7877-445B-A3CA-A75F83F73C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3CC1-9360-4AF5-9F6E-D0CABD82B5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AE13-94F8-4EC8-A3C3-CBF608F83C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4EF5-4B70-4E36-89F2-CFAC9C6260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9CB5-B577-4E0D-AD3E-3B02DEE12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1533-68CF-48DA-AE08-3E16532A23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7DC8-E4AD-4385-8E48-9927254864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E4FA-7CF5-4BC2-AD68-3542BC1A1F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6075-C4F4-4025-B6F7-33F5764539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488A-18CE-4723-95A8-D10CC3C608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9857-CBD0-4899-9089-D52C9D0BEE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4B02-0A8C-400D-B442-1F5CD23189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980E-A7F0-4DBA-AC42-68423CCFF1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C726-C0A9-4487-B8B5-C93FDE7A09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554F-F596-4C33-835D-B74C9802F0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412B-2488-41B7-BBE0-6AD690460D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9BEE-B6AB-455A-968C-6AA60B375F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7A6F-F9FB-4B7F-9538-98B5D80964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7CA1-A897-4D53-84BF-716AEF47E5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4677-00C0-4FB2-B107-D914971C82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46FF-49EB-44BA-A20F-FCB0B85003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D2F-22E4-4C98-B910-43A06FD2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082-A5BB-4D93-A2B8-73DA1390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147-A69E-4E89-A334-EF2B09BC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C48-8898-4423-B766-7A6C720C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D7E-630E-4009-9EB0-F2901065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0FE6-2D86-4D46-A93B-40F7D3E3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960-869B-4C8A-AEFA-AD2BFB41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59A-DD20-4098-BA2E-5DC6E80A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0E8-2115-43ED-B5BA-BB3BBA09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06B-3D10-4A40-AC6B-B9803FF9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2ED0-EA4A-426A-B07A-7BFF9341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072-FAF1-457D-B4E8-7DB1A3D1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F18E-B3E1-4E99-A128-BF3640AE67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3120" y="5719680"/>
            <a:ext cx="53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, 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Picture5.jpg"/>
          <p:cNvPicPr/>
          <p:nvPr/>
        </p:nvPicPr>
        <p:blipFill>
          <a:blip r:embed="rId1"/>
          <a:stretch/>
        </p:blipFill>
        <p:spPr>
          <a:xfrm>
            <a:off x="838080" y="1351080"/>
            <a:ext cx="7175520" cy="54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s and existing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81800" y="914400"/>
            <a:ext cx="6776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ystem built using Web services/SOA to existing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1240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384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79132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n SOA diagram for your homework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de how you would structure your catalog browsing and orde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your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the Web services your customers would use to communicate with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igure 5.4 and/or Figure 5.15 on the previous slides as a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generation Web services: SOAP, WSDL, UDDI (WSDL regi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 functional requirements for businesses, but not the supporting requirements: security, reliability, availability, quality of service, choreogr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2.0: WS-*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ddressing: references to Web service end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tomic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Business Process Execution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horeography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oordination and WS-Ev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Metadata Exchange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Reliable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Security: end to end, not just point to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iness Process Execution Langu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 rot="21540000">
            <a:off x="1828800" y="1066320"/>
            <a:ext cx="5819760" cy="5464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78600" y="658188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 (Electronic Data Interchang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 is a mainframe-based standard for electronic exchange of information. Developed in 198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is expensive, complex and has limited usage, but enough that new technologies must interoperate with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, large companies use EDI and require it of their smaller partners/vendors, who are not always eager to u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EDI standards: ANSI X12 and EDIFACT (U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s follow EDI standards in many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ocuments are called Transaction Sets (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o XML mapping established using DT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users of Internet ecommerce may skip EDI and use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than 80,000 of 6-10 million US businesses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5,000 businesses world-wide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cost and complexity are large obstacle for medium size busi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commun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nary, not text (difficult to change or troublesh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ransaction sets are sta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esigned for expensive and scarce 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ch optimization of message siz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nded to replace letters, phone calls, f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self-describing, cannot be validated, can’t be extended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through third party value-added networks (V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ies generally use file transfer to send file to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handles EDI exchange with trading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ared to once-a-day, batch exchanges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(over a period of days): A purchas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40 document (Request for 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43 (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50 (Purchase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56 (Shipment Not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10 (Invo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20 (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Picture6.jpg"/>
          <p:cNvPicPr/>
          <p:nvPr/>
        </p:nvPicPr>
        <p:blipFill>
          <a:blip r:embed="rId1"/>
          <a:stretch/>
        </p:blipFill>
        <p:spPr>
          <a:xfrm>
            <a:off x="1219320" y="2438280"/>
            <a:ext cx="6210360" cy="229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308920" y="5029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/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4" descr="EDI_ISAExample"/>
          <p:cNvPicPr/>
          <p:nvPr/>
        </p:nvPicPr>
        <p:blipFill>
          <a:blip r:embed="rId1"/>
          <a:stretch/>
        </p:blipFill>
        <p:spPr>
          <a:xfrm>
            <a:off x="2514600" y="152280"/>
            <a:ext cx="4059360" cy="658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012080" y="6019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ail information flow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3" descr="Picture7.jpg"/>
          <p:cNvPicPr/>
          <p:nvPr/>
        </p:nvPicPr>
        <p:blipFill>
          <a:blip r:embed="rId1"/>
          <a:stretch/>
        </p:blipFill>
        <p:spPr>
          <a:xfrm>
            <a:off x="457200" y="712800"/>
            <a:ext cx="8461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or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3" descr="Picture8.jpg"/>
          <p:cNvPicPr/>
          <p:nvPr/>
        </p:nvPicPr>
        <p:blipFill>
          <a:blip r:embed="rId1"/>
          <a:stretch/>
        </p:blipFill>
        <p:spPr>
          <a:xfrm>
            <a:off x="92160" y="692280"/>
            <a:ext cx="89596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0" y="1108080"/>
            <a:ext cx="914400" cy="105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1173240"/>
            <a:ext cx="9144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001000" y="1173240"/>
            <a:ext cx="914400" cy="101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276720" y="185904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6019920" y="1703520"/>
            <a:ext cx="1981080" cy="4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943600" y="205416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3200400" y="2163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276720" y="124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3200400" y="1554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54080" y="1173240"/>
            <a:ext cx="87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350520" y="9558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50520" y="1301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58080" y="16304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359520" y="1935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920200" y="14968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que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934960" y="180828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result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1066680" y="1143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1981080" y="14018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1981080" y="155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86000" y="231624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1"/>
          <p:cNvSpPr/>
          <p:nvPr/>
        </p:nvSpPr>
        <p:spPr>
          <a:xfrm>
            <a:off x="2987280" y="1522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lution- cas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Straight Arrow Connector 37"/>
          <p:cNvCxnSpPr>
            <a:stCxn id="70" idx="3"/>
          </p:cNvCxnSpPr>
          <p:nvPr/>
        </p:nvCxnSpPr>
        <p:spPr>
          <a:xfrm flipV="1">
            <a:off x="3200400" y="1828080"/>
            <a:ext cx="182952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9"/>
          <p:cNvCxnSpPr/>
          <p:nvPr/>
        </p:nvCxnSpPr>
        <p:spPr>
          <a:xfrm flipH="1">
            <a:off x="3200040" y="2132640"/>
            <a:ext cx="1829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4" name="Text Box 19"/>
          <p:cNvSpPr/>
          <p:nvPr/>
        </p:nvSpPr>
        <p:spPr>
          <a:xfrm>
            <a:off x="3285360" y="25113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HT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307320" y="2282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3428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used by customer or manufacturer/distributor to alter XML being sent or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and/or DTD used by customer or manufacturer/ distributor to validate XML being sent or rec’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package the HTTP, XML, XSD, request/response and URL used in “raw” XML trans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described in WSDL documents in registry.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er/distributor registers Web service in UDDI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discovers Web service and invokes it on mfr/distrib Web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tool: CSS for XHTML, XSLT for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09000" y="62064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ufacturer, distribu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57200" y="620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3352680" y="2971800"/>
            <a:ext cx="1497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Straight Arrow Connector 39"/>
          <p:cNvCxnSpPr>
            <a:stCxn id="52" idx="2"/>
            <a:endCxn id="79" idx="3"/>
          </p:cNvCxnSpPr>
          <p:nvPr/>
        </p:nvCxnSpPr>
        <p:spPr>
          <a:xfrm flipH="1">
            <a:off x="4849560" y="2391840"/>
            <a:ext cx="637200" cy="80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1" name="Text Box 19"/>
          <p:cNvSpPr/>
          <p:nvPr/>
        </p:nvSpPr>
        <p:spPr>
          <a:xfrm>
            <a:off x="4961520" y="2968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Straight Arrow Connector 39"/>
          <p:cNvCxnSpPr>
            <a:stCxn id="51" idx="2"/>
          </p:cNvCxnSpPr>
          <p:nvPr/>
        </p:nvCxnSpPr>
        <p:spPr>
          <a:xfrm>
            <a:off x="2743200" y="2163600"/>
            <a:ext cx="596160" cy="103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3" name="Text Box 19"/>
          <p:cNvSpPr/>
          <p:nvPr/>
        </p:nvSpPr>
        <p:spPr>
          <a:xfrm>
            <a:off x="1837440" y="2986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9056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39"/>
          <p:cNvCxnSpPr>
            <a:endCxn id="84" idx="0"/>
          </p:cNvCxnSpPr>
          <p:nvPr/>
        </p:nvCxnSpPr>
        <p:spPr>
          <a:xfrm flipH="1">
            <a:off x="1523160" y="2185560"/>
            <a:ext cx="76284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6" name="Text Box 19"/>
          <p:cNvSpPr/>
          <p:nvPr/>
        </p:nvSpPr>
        <p:spPr>
          <a:xfrm>
            <a:off x="554508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Straight Arrow Connector 39"/>
          <p:cNvCxnSpPr>
            <a:endCxn id="86" idx="0"/>
          </p:cNvCxnSpPr>
          <p:nvPr/>
        </p:nvCxnSpPr>
        <p:spPr>
          <a:xfrm>
            <a:off x="5930640" y="2392200"/>
            <a:ext cx="34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ancial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Picture 3" descr="Picture9.jpg"/>
          <p:cNvPicPr/>
          <p:nvPr/>
        </p:nvPicPr>
        <p:blipFill>
          <a:blip r:embed="rId1"/>
          <a:stretch/>
        </p:blipFill>
        <p:spPr>
          <a:xfrm>
            <a:off x="152280" y="785880"/>
            <a:ext cx="8839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ing/engineering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3" descr="Picture10.jpg"/>
          <p:cNvPicPr/>
          <p:nvPr/>
        </p:nvPicPr>
        <p:blipFill>
          <a:blip r:embed="rId1"/>
          <a:stretch/>
        </p:blipFill>
        <p:spPr>
          <a:xfrm>
            <a:off x="182520" y="706320"/>
            <a:ext cx="87789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er information flow: deta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" descr="Picture11.jpg"/>
          <p:cNvPicPr/>
          <p:nvPr/>
        </p:nvPicPr>
        <p:blipFill>
          <a:blip r:embed="rId1"/>
          <a:stretch/>
        </p:blipFill>
        <p:spPr>
          <a:xfrm>
            <a:off x="158760" y="685800"/>
            <a:ext cx="88264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P and EDI/XML standar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evious slides define the core of an ER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ve very substantial additions for human resources, plann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uy a full ERP or mix and match best of breed systems. Web service/SOA integration is comm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every interface on the previous slides has a defined EDI or XML transaction set or message set, typically defined by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DCC (1968), EDX, CDIX, TALC, UCS/VICS, WINS, BVAI and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s of system integ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es use multiple systems that must increasingly co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often are in different busines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in different companies (vendors, channel partn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on different platforms (operating system, hardw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in differen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ifferent communication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transfer, EDI, XML, RPC, MQ, CORBA, COM, socke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databases, data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objectives, run at different times/peri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s desired that allows integration in spite of different languages, protocols, hard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(SO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are basis for integration i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re of standard open technolog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, XML Schema (XSD), XSLT, SOAP, WS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-, hardware-, software-, database-neu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istry (database) is used to store WSDL for service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, reliability, performance, transactions must be added to ‘primitive’ Web services to have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supports composition (assembling) of services, reusability of services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a service-focused busines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L business process models can be implemented in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loose coupling betwe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, or message-oriented (MOM)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 is sent from system A to system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e generally not guaranteed in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cess may not complete for a long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Shipment tracking service (suc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sync telecom service orders system (fai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of current SOA imple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80160" y="634536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is Web 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41280" y="64882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omas 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architecture (between Web serv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Content Placeholder 4" descr="Picture2.jpg"/>
          <p:cNvPicPr/>
          <p:nvPr/>
        </p:nvPicPr>
        <p:blipFill>
          <a:blip r:embed="rId1"/>
          <a:stretch/>
        </p:blipFill>
        <p:spPr>
          <a:xfrm>
            <a:off x="593640" y="1676520"/>
            <a:ext cx="7956720" cy="47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use of WSD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Content Placeholder 4" descr="Picture3.jpg"/>
          <p:cNvPicPr/>
          <p:nvPr/>
        </p:nvPicPr>
        <p:blipFill>
          <a:blip r:embed="rId1"/>
          <a:stretch/>
        </p:blipFill>
        <p:spPr>
          <a:xfrm>
            <a:off x="1773360" y="1295280"/>
            <a:ext cx="559728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49120" y="274320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ic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mis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04280" y="3970440"/>
            <a:ext cx="114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576560" y="25909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581960" y="39625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servic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5" descr="Picture4.jpg"/>
          <p:cNvPicPr/>
          <p:nvPr/>
        </p:nvPicPr>
        <p:blipFill>
          <a:blip r:embed="rId1"/>
          <a:stretch/>
        </p:blipFill>
        <p:spPr>
          <a:xfrm>
            <a:off x="1239840" y="1371600"/>
            <a:ext cx="6664320" cy="5303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9840" y="23623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022600" y="22096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006760" y="397044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07T15:38:59Z</cp:lastPrinted>
  <dcterms:modified xsi:type="dcterms:W3CDTF">2012-12-29T01:32:44Z</dcterms:modified>
  <cp:revision>196</cp:revision>
  <dc:subject/>
  <dc:title>1.264 Lecture 5</dc:title>
</cp:coreProperties>
</file>