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4D00-CC17-42D0-944A-2BA57EC5D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17FA-3597-44BA-9776-E8EB4006707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3FFF-0B2F-47DB-8149-455173A0898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177D-28CF-424F-8EDC-B7DC762C9BE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EF33-2061-4E16-B1D9-3659F81E646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7968-26B8-488A-9E90-2FF7921D0D7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2C9E-812A-418F-9947-683FF67D3A6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E3D8-5D09-4D52-B7A4-331CE0B2D27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28A2-A053-4B49-803F-E0DEDD7FBE3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7A11-CA76-4E80-9AEF-ED5E031FC82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A386-BDF8-4D48-B58B-013BA359777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96EF-037B-4318-B3B5-C87D7D2A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1051-3151-4D7E-B9E0-6915213F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266E-1428-4389-B852-8868FC5C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F89E-CA86-4DA1-AE20-CF4E32DB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87E2-C0B1-4788-BB8D-917D1244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F768-EF47-49A4-BF08-F059A97E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F2B0-2466-4264-A54D-30D5CE7D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F46C-47E3-440C-91BE-C9EFA756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998C-EBD5-4FC1-8B6B-23AA934F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CF4F-B696-474D-B65B-30753DF2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AFC0-88F9-43CA-82FE-322C5049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CB04-14D3-4D52-8F8E-C2E6865C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679D-994E-4753-8048-4B37BA2671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 archit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ou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7240" y="5719680"/>
            <a:ext cx="50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Green chapter 1-3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Cloud app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4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cloud type, if any, would serve these ap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preproductio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, DB development tools (UML, Visual Studio,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tch processes needing limited security (e.g., raw material managem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f-the-shelf software (e.g., HR, CRM, collabor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 co-dependent ap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with strict licensing and accountability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that require a lot of customization and flexi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the following abbrevi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aaS: infrastructure as a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aS: platform as a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aS: software as a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Cloud app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cloud type, if any, would serve these ap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preproduction system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aaS, P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, database development tools (UML…) softw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tch processes needing limited security (e.g., raw material management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aaS, P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f-the-shelf software (e.g., HR, CRM, collaboration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 co-dependent app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in clo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with strict licensing and accountability requirement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in clo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that require a lot of customization and flexibilit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in cloud, or perhaps I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cloud computin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440" y="914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it these two Web sites to get prices: (What kind of clou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ws.amazon.com/ec2/  Estimat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-deman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reserve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o to “EC2 Pricing”, “AWS Simple Monthly Calculator”, US Ea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ndows/Web SQL Svr, 50% utilization, m3.xlarge (15 GB memory, 13 CPU units) 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On demand and then reserv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orage: 1000GB standard, 100 iops, 100GB-mo snapsh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: 1,000GB/month inter-region in and o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erved: Medium util, 1 yr te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 windowsazure.com. Pricing, “Calculator”, “Shared” tab.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ay as you go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12 month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 site, 150GB database (less than Amazon), 1000GB data transf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ance at developers.google.com/appengine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 to “Quotas and pricing”-&gt;”Pricing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oogle costs require more work to estimate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nk about comparing to running your own data cent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ardware, software, space, security, staff to manage, …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(November 2013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mazon cos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 demand: $488/month (was $831/month last year, for l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rved: $1100 + $286/month (was $1837 + $590/mont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 cos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ared: $355 PAYG, $275 12 mos (was $943/month last yea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og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out the same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oud computing growing exponential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st, flexibility, higher quality soft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jor vendors offer cloud storage, computing, office applications, enterprise applications (CRM, SCM, ERP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ftware as a service (SaaS) is cloud compu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 are infrastructure and platform as a service (IaaS, Paa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ud computing is heavily based on Service Oriented Architectures (SO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are based on Web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are based on HTTP and 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exchange data between databases using SQ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vate and public clouds ex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prise servers and applications will contin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 architecture provides a cost estimate for the software and hard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ypically required early in a project. Use first spiral to develo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stimate staff and software costs from lecture 3,4 approac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examp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blic transpor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it trip plan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it real time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it fare pa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ated vehicle lo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transit dispatch and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ly ch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rehouse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portation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ion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ll examples, architecture generates budge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ff: from function points, person mont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rdware: from TPC and cloud computing estim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ecom: from bandwidth and technology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ation of all system components (hardware, software, network) is 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ystem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ne early in system development or configuration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 users, applications, system software, networks, hard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Web/app/db servers, networks, backup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ations are complex and chan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 is usually wrong on which estimates are ba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is needed because you need a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udge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or a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member the estimate convergence cur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re is much uncertainty in the final system hardware and software. We are only in spiral 1 sti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 make a baseline (point) estimate, you have a lot of error and about a 50% chance of being too 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’ve done everything else right but your system is slow because of inadequate hardware or telecom, it will be very frustr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customer can’t tell why your system is slow. It may be bad database, bad/inefficient software implementation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one of the few problems that you can throw money at to solv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, p.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ccessful configurations are usually overbui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components will be oversized, but you have a better chance of having enough capacity at the (unanticipated) bottlen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nd your entire budget, always, or use clou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server (often virtualized) does just one th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 server (Web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 logic (app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 (database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can understand and characterize its task this way. If a box handles many functions, sizing and managing it is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erformance metric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rics (database server as an examp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hroughput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/O operations/second, data transfer rate/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system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throughput is low, more servers used than really nee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atenc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 seek time (seconds), response time (secon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user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latency is high, users have slow respon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Utilization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ercentage of data transfer rate, disk capacity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futur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avg utilization &gt; 60%, your systems will crawl on busy da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verage server utilization  ~15-20% in traditional data cent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hernet data transfer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 Mbit/sec =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12.50   MB/s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k data transfer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10.00   MB/s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m data transfer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6,000 bits/sec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0.007   MB/s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comparable units when assessing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 bits (b)=  1 byte (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B may be 1,000,000 B or 1,024,000 B.  GB, TB discrepancies high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Database server cost, performan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 on to www.tpc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s -&gt; TPC-C -&gt; Top 10 Price/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on “system” for top performing choice and open executive summary as pdf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ick the 2</a:t>
            </a:r>
            <a:r>
              <a:rPr b="1" lang="en-US" sz="2000" spc="-1" strike="noStrike" baseline="30000">
                <a:solidFill>
                  <a:srgbClr val="ff99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one: IB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at the configuration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(Note the 50% discou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es the server hardware cost? How many use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 the disks cost? How many are there? Total storag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What does the software cost? (This one is unusual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CPUs? How much memor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gnore the client hardware, which is just for the 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the range of performance (response tim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s -&gt; TPC-H -&gt; Top 10 Price/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100GB results, same items as TPC-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units are queries per hou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 with TPC-C performance, which is transactions per minute. Why the differen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(November 2013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PC-C: IBM x36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es the server cost?     ~$30,000.  Users: ~1,000,0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 the disks cost?           ~$26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ftwar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~$25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disks are there?     115, holding 40,000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CPUs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2 (8 co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uch memory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768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the range of performance (response times) ~0.1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PC-H: Lenovo ThinkServer RD630 (100 GB databa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es the server cost?    ~$13,500.   Users: a few (5-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 the disks cost?          (not specified, but most of i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disks are there?     8, holding 2,400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CPUs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2 (16 co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uch memory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64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the range of response times: 0.3-12.7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: 420,000 QpH= 7,000 Q/min(H) vs 1,300,000 q/min(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11440" indent="-1620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 transaction is about 1,000,000 times the cost of a C transa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ers are faster/cheaper n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st 2000 TPC-C (price/performance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,000 tpmC, $58/tpmC, 6,000 users, 5 second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st 2013 TPC-C (price/performance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,600,000 tpmC, $0.47/tpmC, 1,000,000 users, 0.1 second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~3,200,000 total transactions/minute in benchma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~800,000 total transactions/minute actual ma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0% utilization max for good perform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system is less highly tuned than benchmark 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a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ow for future 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x of transactions changing: more status/inquiry with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est performance 2013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,000,000 tpmC, $1/tpmC,  24,000,000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oud computing vs traditional optio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zon, Microsoft Azure, Google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need for Web/application/database 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need for Web/database 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e your application and place it in the clo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or pub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y by the h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ons for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ou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PC/C-E-H systems that you purchase and host in-house or in a hosting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ap servers from Dell, etc. that you configure for latency, throughput, utilization, etc. using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oud computin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ee types of clou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nfrastructu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s a service: outsource hard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vide own operating system, database, app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 flexible, most expensive total IT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s: Rack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latfor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s a service: outsource operating environ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ud provides OS, database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: Amazon, Microsoft, Goog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oftwa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s a service: no app of 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the third party 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s: salesforce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ast flexible, least expensive total IT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portation example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63960" indent="-180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tive On-Demand APT (package carrier TM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263960" indent="-180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ne Network (logistic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1-21T16:29:48Z</cp:lastPrinted>
  <dcterms:modified xsi:type="dcterms:W3CDTF">2013-11-23T01:07:07Z</dcterms:modified>
  <cp:revision>254</cp:revision>
  <dc:subject/>
  <dc:title>1.264 Lecture 5</dc:title>
</cp:coreProperties>
</file>